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29B18-9724-41EA-AFD2-C55ABCFDA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4DB81-DDF5-4996-9AF2-A9ADB0EED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8F5CF-08DC-4397-B812-F73EA2EF2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8A9C5-6014-4F7A-B4EC-2ADD79919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644BE-1659-4C0F-B390-1F5EEE79A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8DF3A-73F6-496F-A1E4-6E29A1B87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306E5-4E99-40E6-90FD-3EA4D99F8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5CA63-E122-45C2-9A73-246EB3401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25709-8E63-43BA-8711-1ACBBBB9C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6E319-2854-4453-A3CE-2ABACAB9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F4536-8AD0-47D4-9125-21D94428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6C2CB-FF23-4A84-83C3-3D8A1FDDB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41AB2-D15B-4891-A588-80F4B329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A3EE7-B754-4244-BD83-AADED62F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670AA-28AA-494F-A088-328FBE765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3FBB2-6A33-4470-A7EC-8B2FB06A2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E30D7-1610-438F-9BA7-EBB1F9220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40004-AEE0-44C8-884F-1708B2E80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BAA4A-367F-4CD6-A1E8-5FBC04455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0621A-766C-49CF-B265-AB9F6F662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8B87E-9DA7-40A6-87E7-BF2B19BF7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A7D8E-8100-4C04-90DC-03ED9B83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7FDE3-F1E4-485D-A1DD-02CCABED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F7DE3-C170-43AB-B14F-C4744AE1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95B29-F42C-4A0B-9314-0F3722F3BB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FB77C-6673-40DB-AC85-AE03754EAA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eaking a Permutation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9560" y="52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0280" y="1650600"/>
            <a:ext cx="76471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known word attack can match the word with the ciphertext to discover the permu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098720" y="2367000"/>
            <a:ext cx="1087200" cy="4491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11360" y="2690640"/>
            <a:ext cx="4805640" cy="40831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008080" y="4033800"/>
            <a:ext cx="1155960" cy="592200"/>
          </a:xfrm>
          <a:prstGeom prst="wedgeRoundRectCallout">
            <a:avLst>
              <a:gd name="adj1" fmla="val -44504"/>
              <a:gd name="adj2" fmla="val 70106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85040" y="2819520"/>
            <a:ext cx="1155600" cy="591840"/>
          </a:xfrm>
          <a:prstGeom prst="wedgeRoundRectCallout">
            <a:avLst>
              <a:gd name="adj1" fmla="val -44504"/>
              <a:gd name="adj2" fmla="val 70106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ter Possib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22D1C-C041-429D-AE30-489F3F635CA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3-04T01:35:16Z</dcterms:modified>
  <cp:revision>68</cp:revision>
  <dc:subject/>
  <dc:title>CAP Cryptographic Analysis Program</dc:title>
</cp:coreProperties>
</file>